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63F8-877F-482A-B100-A8E01194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0D2-267B-42EF-B3FF-D3C130FB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31AA-F6A8-4024-8DEB-4F4AA0D3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C78-F1EA-49C3-9C2E-585C7192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C22-5A1E-4777-8D2C-2600C3C3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C602-1ECE-47B2-9D78-DCAEB8DB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9DD6-2D33-459B-AE04-B4CDD2D8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5AB-E939-40AA-88EA-DA2E2B93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DF9-A3BB-459E-9903-DE606830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673-3D0C-428F-B1AE-DF739837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1F7-9E47-47B0-A434-1496BEDA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8729-C947-45F3-8A98-EFD4DA61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AD1C-8CF5-4FE5-ABFD-532F17869863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14600" y="380880"/>
            <a:ext cx="45957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BUON GIORN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1752480"/>
            <a:ext cx="6553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uon Giorno! Cia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ome ti chia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uon Giorno! Cia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Mi chiamo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uon Giorno! Cia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Piacere, 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uon Giorno! Cia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Piacere 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96080" y="2819520"/>
            <a:ext cx="95112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228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THE ITALIAN CORRESPONDENT FOR EACH OF THE FOLLOWING ENGLISH WORDS AND EXPRE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3716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286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335268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5715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MP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19920" y="5715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3429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2286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13716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76920" y="2438280"/>
            <a:ext cx="9903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581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594360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8571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28600"/>
            <a:ext cx="67816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ASIN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FUN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BANDIER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GA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ILIEGI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HO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AS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IMBU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HIES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LU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DAD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M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ELEFANT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N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924680" y="5638680"/>
            <a:ext cx="8748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28600"/>
            <a:ext cx="67816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OC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P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QUADERN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RAG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TOP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R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SOL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SCU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SCI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U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VAS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ZUC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ANNI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HIA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228600"/>
            <a:ext cx="67816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MI CHIAM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SO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OM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QUA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BUONGIOR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GRAZI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I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BEN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MAL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OSI’ COSI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PIACER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HAI-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8600"/>
            <a:ext cx="67816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SIN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UN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NDIER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T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ILIEGI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O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S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MBU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HIES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U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D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E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LEFANT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924680" y="5638680"/>
            <a:ext cx="8748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228600"/>
            <a:ext cx="67816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CA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UADERN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G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OP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OLE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CUO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CI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ASO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UC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NNI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HIA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228600"/>
            <a:ext cx="678168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vantGarde Bk BT"/>
              </a:rPr>
              <a:t>How do you answer these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Come sta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______________________Come ti chiam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______________________Ti piace la scuo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228600"/>
            <a:ext cx="6781680" cy="47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vantGarde Bk BT"/>
              </a:rPr>
              <a:t>How do you answer these 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Quanti anni ha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______________________Cia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______________________Buongior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vantGarde Bk BT"/>
              </a:rPr>
              <a:t>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228600"/>
            <a:ext cx="1752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ARO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228600"/>
            <a:ext cx="6705720" cy="63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ay it in Italia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Hello!  My name is Mar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What is your n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Nice to meet 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How old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How are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04920"/>
            <a:ext cx="1371600" cy="137160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380880"/>
            <a:ext cx="1371600" cy="1371600"/>
          </a:xfrm>
          <a:prstGeom prst="ellipse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2057400"/>
            <a:ext cx="1371600" cy="137160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n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380880"/>
            <a:ext cx="1371600" cy="137160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1905120"/>
            <a:ext cx="1371600" cy="137160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t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1828800"/>
            <a:ext cx="1371600" cy="137160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4952880"/>
            <a:ext cx="1371600" cy="137160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3657600"/>
            <a:ext cx="1371600" cy="137160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3581280"/>
            <a:ext cx="1371600" cy="1371600"/>
          </a:xfrm>
          <a:prstGeom prst="ellipse">
            <a:avLst/>
          </a:prstGeom>
          <a:solidFill>
            <a:srgbClr val="ff33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5181480"/>
            <a:ext cx="1371600" cy="137160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e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971800" y="304920"/>
            <a:ext cx="266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Cia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295280"/>
            <a:ext cx="6629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!  Mi chiamo Sara.  E tu, come ti chia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Mi chiamo C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Piacere, Car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Piacere, Sara.  Come st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ene, grazie,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Io sto b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Allora ciao, Car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, ciao.  Sara!  A dom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30492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3808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205740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72200" y="3808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190512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467480" y="182880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49528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65760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35812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1814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7632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30492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3808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205740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3808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76720" y="190512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182880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9528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365760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77120" y="35812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5181480"/>
            <a:ext cx="1371600" cy="13716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71800" y="304920"/>
            <a:ext cx="266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Ciao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295280"/>
            <a:ext cx="66294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!  Mi _________Sara.  E tu, come ti chia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MI chiamo C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_________, Car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Piacere, Sara.  _______ st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ene, __________,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Io sto b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Allora __________, Carl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, ciao.  Sara!  A doma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"/>
            <a:ext cx="2057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the bl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48520" y="304920"/>
            <a:ext cx="266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 Black"/>
              </a:rPr>
              <a:t>doma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1143000"/>
            <a:ext cx="601992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Bk BT"/>
              </a:rPr>
              <a:t>Come ti chiam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4724280"/>
            <a:ext cx="601992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Bk BT"/>
              </a:rPr>
              <a:t>Come sta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31240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41911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3720" y="457200"/>
            <a:ext cx="144756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86200" y="228600"/>
            <a:ext cx="48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 Black"/>
              </a:rPr>
              <a:t>Quanti anni ha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914400"/>
            <a:ext cx="647712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, Carlo.  Come st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, Sara.  Sto bene grazie. 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ene anch’io.  Carlo, quanti anni h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Ho sette anni. 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Io ho sei anni e faccio la prima elemen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he brava.  Ti piace la scuo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Si, mi piace molto.  E a 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Mi piace la scuola e mi piace giocare a badmin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he bello.  Ci vediam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86200" y="228600"/>
            <a:ext cx="489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6600"/>
                </a:solidFill>
                <a:latin typeface="Arial Black"/>
              </a:rPr>
              <a:t>Quanti anni hai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66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914400"/>
            <a:ext cx="67816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, Carlo.  Come _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, Sara.  Sto _______ grazie. 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Bene anch’io.  Carlo, ________ anni h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Ho sette ________.  E 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Io ho sei anni e faccio la prima 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he brava.  _____ piace la scuo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Si, _____ piace molto.  E a 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Mi piace la _________ e mi piace giocare a badmin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he bello.  ______ vediam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vantGarde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ia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228600"/>
            <a:ext cx="2743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the bl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48520" y="304920"/>
            <a:ext cx="2666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 Black"/>
              </a:rPr>
              <a:t>doma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1143000"/>
            <a:ext cx="601992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Bk BT"/>
              </a:rPr>
              <a:t>Quanti anni ha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4724280"/>
            <a:ext cx="6019920" cy="129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vantGarde Bk BT"/>
              </a:rPr>
              <a:t>Ti piace la scuo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312408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911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96080" y="1371600"/>
            <a:ext cx="9684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352680" y="304920"/>
            <a:ext cx="5324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ome si dice....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1371600"/>
            <a:ext cx="6476760" cy="1371600"/>
          </a:xfrm>
          <a:prstGeom prst="wedgeRoundRectCallout">
            <a:avLst>
              <a:gd name="adj1" fmla="val -50000"/>
              <a:gd name="adj2" fmla="val 74652"/>
              <a:gd name="adj3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ome si dice 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“pear”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 in italia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Si dice: 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PERA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4952880"/>
            <a:ext cx="6476760" cy="1371600"/>
          </a:xfrm>
          <a:prstGeom prst="wedgeRoundRectCallout">
            <a:avLst>
              <a:gd name="adj1" fmla="val -55810"/>
              <a:gd name="adj2" fmla="val -152430"/>
              <a:gd name="adj3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Come si dice ‘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hello’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 in italian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Si dice: </a:t>
            </a: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CIAO</a:t>
            </a: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28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RITE THE ITALIAN CORRESPONDENT FOR EACH OF THE FOLLOWING ENGLISH WORDS AND EXPRE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3716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335268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96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09680" y="5715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715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992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3429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2286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3716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1600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876920" y="2438280"/>
            <a:ext cx="9903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358128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5943600"/>
            <a:ext cx="10670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03:23:16Z</dcterms:created>
  <dc:creator>VALERIA PALLADINO</dc:creator>
  <dc:description/>
  <dc:language>en-US</dc:language>
  <cp:lastModifiedBy>Valeria</cp:lastModifiedBy>
  <cp:lastPrinted>2003-03-31T04:40:05Z</cp:lastPrinted>
  <dcterms:modified xsi:type="dcterms:W3CDTF">2006-09-03T17:25:50Z</dcterms:modified>
  <cp:revision>15</cp:revision>
  <dc:subject/>
  <dc:title>Slide 1</dc:title>
</cp:coreProperties>
</file>